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75BE-13B5-4666-BEB7-6DA96774D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8F29-C015-41FC-8A9E-489D44F2F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B158-690D-4264-A916-A3F70B2D2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F3F1-50E4-4D2B-B673-24F10E45F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AF761-F663-4214-BD33-5ECA1A27C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D89A6-1C7D-4B34-BDA5-2D2150A14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88922-5235-46EA-9613-774D3E9E8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6DFDE-FD0D-4A01-9019-76F150468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07915-B181-4F0F-B450-26C6989E4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9B1BD-AA9A-44BE-AA3C-AC042D31B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62E4E-16C3-4BA8-B078-B62F2676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815C-C946-4FF1-845C-5F65DBD9E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2AD50-0E98-40C8-9D63-13368DCB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8DBCF-6A33-43C4-845E-9BFBB615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07B2A-2496-4EBD-A991-9FAF29D74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7E7B2-3216-421D-A473-35495A60C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A66C5-0A36-4B99-A10D-9C1B0CF13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FE50-C1E9-4801-98C5-BD5941BE0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7D0F-63E1-4357-B73A-438C3894C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F2D5-F1DD-485A-A813-9910515C6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B15C-C831-4945-B161-D2940B360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1924-A516-4E64-B360-BBD8D5C4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4030-04EB-4EC3-BC0E-4C1C2055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7FD7-FBE2-4708-B764-933DC1B3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C35C0-CF69-4AB0-AA42-5A5834DFBFA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783D2-E0C5-4EDD-BB57-61AA080FC59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cecff"/>
                </a:solidFill>
                <a:latin typeface="Arial"/>
              </a:rPr>
              <a:t>VIAŢA SPIRITUALĂ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152280" y="228600"/>
            <a:ext cx="838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ccecff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ccecff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(Adaptat după </a:t>
            </a:r>
            <a:r>
              <a:rPr b="0" i="1" lang="it-IT" sz="1000" spc="-1" strike="noStrike">
                <a:solidFill>
                  <a:srgbClr val="ffffff"/>
                </a:solidFill>
                <a:latin typeface="Arial"/>
              </a:rPr>
              <a:t>Manualul de Istorie</a:t>
            </a: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it-IT" sz="1000" spc="-1" strike="noStrike">
                <a:solidFill>
                  <a:srgbClr val="ffffff"/>
                </a:solidFill>
                <a:latin typeface="Arial"/>
              </a:rPr>
              <a:t>clasa a V-a</a:t>
            </a: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, Zoe Petre, Laura Căpiţă, Monica Dvorski, Carol Căpiţă, Ioan Grosu)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ccecff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ccecff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114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Viaţa spirituală a oamenilor din preistorie este la fel de bogată ca şi a noastră. Dar, în vreme ce noi ştim mai multe despre lumea ce ne înconjoară, primitivii nu au la dispoziţie instrumentele de astăzi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Nesiguranţa în obţinerea hranei şi faptul că nu găsesc răspunsurile la întrebări cum ar fi cauza anotimpurilor sau originea animalelor, i-au făcut să acorde puteri deosebite unor plante şi animale sau unor fiinţe supranatura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Primitivii cred că dacă nu acordă respectul cuvenit acestor fiinţe (prin dansuri şi ceremonii), ele se pot răzbuna refuzând să-i ajute la vânătoare şi cule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Un loc aparte îl ocupă cultul morţilor. Obiceiul îngropării celor morţi cu daruri (ofrande) alături apare la sfârşitul paleoliticului, dar el se răspândeşte cu deosebire în timpul epocilor următoa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În neolitic, atunci când agricultura şi creşterea animalelor au devenit ocupaţiile de bază, în religia primitivă apar divinităţi care pot asigura recolte bogate şi turme numeroa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5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4876920" y="152388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ccecff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ccecff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Ce izvoare istorice sunt utilizate pentru cercetarea preistoriei 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izvoare arheologi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izvoare scri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izvoare numismati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Redaţi pe scurt înţelesul termenilo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preistori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homin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migraţi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În ce epoci ale preistoriei au fost realizate 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domesticirea animalel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metalurg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cce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olăritu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3s14</cp:lastModifiedBy>
  <dcterms:modified xsi:type="dcterms:W3CDTF">2012-06-19T10:45:02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